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EFC-20FC-4FFD-B26F-D97701C4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2920" y="376992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53B8-2C3B-4040-8D12-1114E574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380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1323-2032-4A72-BE13-887E49F9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5492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9728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292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5492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9728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1D9-7DC7-468C-A16E-FF7359FA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2777-8111-4A7D-844F-7E9CA6EE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5388-49C1-48E7-9CA9-D6460F5A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F6AC-8528-4BB4-A30E-39144AC6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2DEC-5B57-4C22-9EE3-CC9B7809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78AB-95DF-4F15-A4ED-96F52AC1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920" y="151920"/>
            <a:ext cx="7594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AF23-F843-46F6-8A64-210F7256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DAD1-CA59-42A1-849A-5CF1A5A6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D22D-827A-4F7E-A482-5D82E07E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380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9F6F-9CDF-49AD-83DE-23FD8A93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3F40-0DBC-4918-8D60-3D95A1D2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2920" y="376992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73DA-BA7C-4D9C-8572-90C6429E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2380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1A74-EF86-4E94-8896-1B828978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5492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9728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292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5492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9728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938A-F4D4-4C6F-AA57-A262CBA0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16A-D3AC-47FB-A822-B9960FF1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EE15-A031-460C-8FE4-8A7D30BF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4E2-2FDD-4EA8-96DB-0851F235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2920" y="151920"/>
            <a:ext cx="7594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C83-FC9E-4DB6-981A-E0EB2890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99C-D6B7-4A40-8F1A-0B65B4B2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380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A7CF-0DD1-4C2A-9CB3-EE1BC80D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F7C-3CF6-457C-93FC-CD674F37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1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A971-8CA6-4AEF-8C80-EDE2BB076E1F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03200" y="6481800"/>
            <a:ext cx="5486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enQ Confidential (13/1/2006) </a:t>
            </a:r>
            <a:r>
              <a:rPr b="1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301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07D2-0B87-4D9B-8512-D56F99D1FAD5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200" y="6481800"/>
            <a:ext cx="5486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enQ Confidential (13/1/2006) </a:t>
            </a:r>
            <a:r>
              <a:rPr b="1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0520" y="2349000"/>
            <a:ext cx="69134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Management Update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anuary 27th, 2006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rand launch – translate the positive recognition from the outside to the ins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15800" y="1360080"/>
            <a:ext cx="9097920" cy="39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First time two press events were held simultaneously on two continents: Berlin/Europe &amp; Beijing/Asia, with live-streaming for global audience internally and externall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With an estimated number of approx. 1.000 clippings in all major newspapers, (e.g. Wall Street Journal, Financial Times etc.) we could reach 50 to 100 Mio. people worldwid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edia show positive feedback – so far, no negative coverage has been generated from the launch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New products receive positive feedback and are listed from all major operato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"/>
          <p:cNvSpPr/>
          <p:nvPr/>
        </p:nvSpPr>
        <p:spPr>
          <a:xfrm>
            <a:off x="488880" y="5516640"/>
            <a:ext cx="90979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1b15"/>
                </a:solidFill>
                <a:latin typeface="Minion"/>
                <a:ea typeface="文鼎中黑"/>
              </a:rPr>
              <a:t>Instead of focusing on negative messages, people should be proud of the new brand and the products we have laun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Minion"/>
              </a:rPr>
              <a:t>Let’s Enterprise, Again !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1" name=""/>
          <p:cNvSpPr/>
          <p:nvPr/>
        </p:nvSpPr>
        <p:spPr>
          <a:xfrm>
            <a:off x="212868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2920" y="1203120"/>
            <a:ext cx="93643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0" lang="zh-TW" sz="3000" spc="-1" strike="noStrike">
                <a:solidFill>
                  <a:srgbClr val="3a0e66"/>
                </a:solidFill>
                <a:latin typeface="Minion"/>
              </a:rPr>
              <a:t>We are not a charity” - we are hired to make profit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  <a:p>
            <a:pPr marL="308520" indent="-30852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a0e66"/>
                </a:solidFill>
                <a:latin typeface="Minion"/>
              </a:rPr>
              <a:t>Seek success, create a profit zone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  <a:p>
            <a:pPr marL="308520" indent="-30852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All our efforts on customers and business opportunity.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  <a:p>
            <a:pPr marL="308520" indent="-30852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a0e66"/>
                </a:solidFill>
                <a:latin typeface="Minion"/>
              </a:rPr>
              <a:t>No excuses, no blaming, no politics. Just do it!!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  <a:p>
            <a:pPr marL="308520" indent="-30852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Come together and work as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team,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culture,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mind,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direction and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system for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common goal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  <a:p>
            <a:pPr marL="308520" indent="-30852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Customers won‘t wait… and competitors won‘t stand still… - so just do it right away… don‘t wait… move fast!</a:t>
            </a:r>
            <a:br>
              <a:rPr sz="3000"/>
            </a:br>
            <a:r>
              <a:rPr b="0" lang="en-US" sz="3000" spc="-1" strike="noStrike">
                <a:solidFill>
                  <a:srgbClr val="fd1b15"/>
                </a:solidFill>
                <a:latin typeface="Minion"/>
              </a:rPr>
              <a:t>Go! Go! Go!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44520" y="549360"/>
            <a:ext cx="4176720" cy="55436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5543640"/>
              <a:gd name="textAreaBottom" fmla="*/ 5543640 h 554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170320" y="549360"/>
            <a:ext cx="4462560" cy="5543640"/>
          </a:xfrm>
          <a:custGeom>
            <a:avLst/>
            <a:gdLst>
              <a:gd name="textAreaLeft" fmla="*/ 360 w 4462560"/>
              <a:gd name="textAreaRight" fmla="*/ 4463280 w 4462560"/>
              <a:gd name="textAreaTop" fmla="*/ 0 h 5543640"/>
              <a:gd name="textAreaBottom" fmla="*/ 5543640 h 554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7960" y="333360"/>
            <a:ext cx="2141640" cy="59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B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E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D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440" y="333360"/>
            <a:ext cx="2141640" cy="59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B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E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D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15760" y="1268280"/>
            <a:ext cx="114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a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55360" y="126828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as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21080" y="3252960"/>
            <a:ext cx="208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xecu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33680" y="3252960"/>
            <a:ext cx="281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xcelle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06040" y="5197320"/>
            <a:ext cx="14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51760" y="51973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eta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1960" y="2349360"/>
            <a:ext cx="2087640" cy="201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32160" y="2308320"/>
            <a:ext cx="12970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2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Eike Boettner</cp:lastModifiedBy>
  <dcterms:modified xsi:type="dcterms:W3CDTF">2006-01-27T14:44:05Z</dcterms:modified>
  <cp:revision>108</cp:revision>
  <dc:subject/>
  <dc:title>PowerPoint 簡報</dc:title>
</cp:coreProperties>
</file>